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4.png" ContentType="image/png"/>
  <Override PartName="/ppt/media/image13.jpeg" ContentType="image/jpeg"/>
  <Override PartName="/ppt/media/applause.wav" ContentType="audio/x-wav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0618-6815-4892-9E94-52A5706AA5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7006-B434-4B76-975E-3A820634E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5E72-747E-4F64-BA6D-32607977E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67D-A260-4D88-83C5-A744B36B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2D66-263B-4182-BB21-1AFD6BFA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1C3C-4DA8-4FC0-A4B2-F07F12353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A1F4-CD80-4939-B5BD-696307173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1954-7290-46BC-9EA8-A54C1527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EDBE-3A11-4FBA-B1B9-766350CCA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8D5C-1309-436F-B339-8551A04B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B8D8-0CF9-4456-9000-FB7AA70F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BF45-EACA-4CED-B952-321A0F70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283E-6B12-490E-ACBE-A39A1375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80FD-DF59-46B5-94E7-0FCC20DC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236C-A5F2-4920-88C9-8AE315C1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FAB6-7DE8-4F99-AC84-3351C147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5213-3AA1-4AA8-8046-52F43884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3621-9C7C-4C34-863D-49CD2A79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3142-D5C3-4151-A92B-0F59923A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3CCC-7C68-4026-B6B3-03B1A38E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6B3F-5870-4117-91D9-D381EC42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D3F-1253-45DC-9014-ACA212EA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EE3A-F1A6-434B-A8AD-B4EDEE50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E1CC-8440-4A84-9970-C93B72EC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E280-83C0-413D-A657-180A514D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89E9-23C0-47FC-AA0A-EB132BEC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1E53-F13D-441C-B126-EB7FF4EE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4747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1DCA-A578-41C2-ADBD-D27B1F04F2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6EE2-615D-490B-B276-D4F47D9E5A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" Target="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15.jpe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jpe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imagesCA8XS3V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914040"/>
            <a:ext cx="7620120" cy="25146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SPIRATORY SYSTEM: Structures and Function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ade Scienc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. She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. Sny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s. Sm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1409760" y="1106640"/>
            <a:ext cx="6629400" cy="5141880"/>
          </a:xfrm>
          <a:prstGeom prst="rect">
            <a:avLst/>
          </a:prstGeom>
          <a:ln w="0">
            <a:noFill/>
          </a:ln>
        </p:spPr>
      </p:pic>
      <p:sp>
        <p:nvSpPr>
          <p:cNvPr id="130" name="Date Placeholder 3"/>
          <p:cNvSpPr/>
          <p:nvPr/>
        </p:nvSpPr>
        <p:spPr>
          <a:xfrm>
            <a:off x="76320" y="647712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70040"/>
                </a:solidFill>
                <a:latin typeface="Arial"/>
              </a:rPr>
              <a:t>Copyright © 2008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8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ronch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400800" y="64008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1.8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34" name="Date Placeholder 3"/>
          <p:cNvSpPr/>
          <p:nvPr/>
        </p:nvSpPr>
        <p:spPr>
          <a:xfrm>
            <a:off x="76320" y="647712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70040"/>
                </a:solidFill>
                <a:latin typeface="Arial"/>
              </a:rPr>
              <a:t>Copyright © 2008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40080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ung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i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rga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of the respirato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lveoli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(singular: alveolus): small air sacs that look like bunches of grapes, surrounded by capillaries, where ga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xchang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Content Placeholder 3" descr="lung.jpg"/>
          <p:cNvPicPr/>
          <p:nvPr/>
        </p:nvPicPr>
        <p:blipFill>
          <a:blip r:embed="rId2"/>
          <a:stretch/>
        </p:blipFill>
        <p:spPr>
          <a:xfrm>
            <a:off x="5405400" y="4495680"/>
            <a:ext cx="236700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ructure of The Lungs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40" name="Content Placeholder 3" descr="lung.jpg"/>
          <p:cNvPicPr/>
          <p:nvPr/>
        </p:nvPicPr>
        <p:blipFill>
          <a:blip r:embed="rId2"/>
          <a:stretch/>
        </p:blipFill>
        <p:spPr>
          <a:xfrm>
            <a:off x="1523880" y="1371600"/>
            <a:ext cx="6248520" cy="502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Picture1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76320" y="647712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70040"/>
                </a:solidFill>
                <a:latin typeface="Arial"/>
              </a:rPr>
              <a:t>Copyright © 2008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001000" cy="6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natomy of Alveoli and Capillar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400800" y="6400800"/>
            <a:ext cx="236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21.10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2"/>
          <a:srcRect l="59830" t="0" r="0" b="7611"/>
          <a:stretch/>
        </p:blipFill>
        <p:spPr>
          <a:xfrm>
            <a:off x="3048120" y="1600200"/>
            <a:ext cx="429552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5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47" name="Date Placeholder 3"/>
          <p:cNvSpPr/>
          <p:nvPr/>
        </p:nvSpPr>
        <p:spPr>
          <a:xfrm>
            <a:off x="76320" y="647712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70040"/>
                </a:solidFill>
                <a:latin typeface="Arial"/>
              </a:rPr>
              <a:t>Copyright © 2008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40080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s Exchang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fter air enters an alveolus,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xyge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passes through the capillary wall into the bl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rbon dioxide and water pass from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loo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to the alveo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rge surfac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re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of alveoli allows the lungs to absorb a lot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51" name="Date Placeholder 3"/>
          <p:cNvSpPr/>
          <p:nvPr/>
        </p:nvSpPr>
        <p:spPr>
          <a:xfrm>
            <a:off x="76320" y="647712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70040"/>
                </a:solidFill>
                <a:latin typeface="Arial"/>
              </a:rPr>
              <a:t>Copyright © 2008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40080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s Exchang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914400" y="1100160"/>
            <a:ext cx="7581960" cy="57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3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t’s test our mind about this subtopic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you ready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yes , click the butter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not , click the peng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butterfly.jpg"/>
          <p:cNvPicPr/>
          <p:nvPr/>
        </p:nvPicPr>
        <p:blipFill>
          <a:blip r:embed="rId2"/>
          <a:stretch/>
        </p:blipFill>
        <p:spPr>
          <a:xfrm>
            <a:off x="6324480" y="4648320"/>
            <a:ext cx="1936800" cy="1452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mimipunk-tux-cartoon-1820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600200" y="44956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3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 of the following is NOT the respiratory org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Bronc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4" action="ppaction://hlinksldjump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5" action="ppaction://hlinksldjump"/>
              </a:rPr>
              <a:t>Alveol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LL DONE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cupbutton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172200" y="4343400"/>
            <a:ext cx="2514600" cy="182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RRY , THAT IS NOT THE ANS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tryagain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095880" y="3886200"/>
            <a:ext cx="2743200" cy="2543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868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respiration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piration is the chemical process whereby energy is released from glucose or other simple substa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*** Respiration (also known as cellular respiration) is different from brea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3"/>
          <p:cNvSpPr/>
          <p:nvPr/>
        </p:nvSpPr>
        <p:spPr>
          <a:xfrm>
            <a:off x="0" y="4419720"/>
            <a:ext cx="9144000" cy="1143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ucose + Oxygen       Energy +Carbon Dioxide +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5"/>
          <p:cNvCxnSpPr/>
          <p:nvPr/>
        </p:nvCxnSpPr>
        <p:spPr>
          <a:xfrm>
            <a:off x="3200400" y="502884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Box 8"/>
          <p:cNvSpPr/>
          <p:nvPr/>
        </p:nvSpPr>
        <p:spPr>
          <a:xfrm>
            <a:off x="304920" y="5334120"/>
            <a:ext cx="1143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digestiv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9"/>
          <p:cNvSpPr/>
          <p:nvPr/>
        </p:nvSpPr>
        <p:spPr>
          <a:xfrm>
            <a:off x="1905120" y="5334120"/>
            <a:ext cx="12952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respira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144792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low chart above shows the route of air through the body. Where does the air flow after the trach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Bronchi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Diaphra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Rib c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Bronch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ight Arrow 7"/>
          <p:cNvSpPr/>
          <p:nvPr/>
        </p:nvSpPr>
        <p:spPr>
          <a:xfrm>
            <a:off x="1066680" y="533520"/>
            <a:ext cx="1676520" cy="91440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ight Arrow 8"/>
          <p:cNvSpPr/>
          <p:nvPr/>
        </p:nvSpPr>
        <p:spPr>
          <a:xfrm>
            <a:off x="2895480" y="533520"/>
            <a:ext cx="2286000" cy="99036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Diagram 9" descr=""/>
          <p:cNvPicPr/>
          <p:nvPr/>
        </p:nvPicPr>
        <p:blipFill>
          <a:blip r:embed="rId2"/>
          <a:stretch/>
        </p:blipFill>
        <p:spPr>
          <a:xfrm>
            <a:off x="1749600" y="5479920"/>
            <a:ext cx="6102000" cy="420840"/>
          </a:xfrm>
          <a:prstGeom prst="rect">
            <a:avLst/>
          </a:prstGeom>
          <a:ln w="0">
            <a:noFill/>
          </a:ln>
        </p:spPr>
      </p:pic>
      <p:sp>
        <p:nvSpPr>
          <p:cNvPr id="172" name="Right Arrow 10"/>
          <p:cNvSpPr/>
          <p:nvPr/>
        </p:nvSpPr>
        <p:spPr>
          <a:xfrm>
            <a:off x="5257800" y="533520"/>
            <a:ext cx="1905120" cy="99036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ight Arrow 11"/>
          <p:cNvSpPr/>
          <p:nvPr/>
        </p:nvSpPr>
        <p:spPr>
          <a:xfrm>
            <a:off x="7315200" y="533520"/>
            <a:ext cx="1523880" cy="9903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ffff"/>
          </a:solidFill>
          <a:ln w="25560">
            <a:solidFill>
              <a:srgbClr val="9065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16" presetSubtype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GRATULATIONS !!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cupbutton.jpg"/>
          <p:cNvPicPr/>
          <p:nvPr/>
        </p:nvPicPr>
        <p:blipFill>
          <a:blip r:embed="rId2"/>
          <a:stretch/>
        </p:blipFill>
        <p:spPr>
          <a:xfrm>
            <a:off x="6172200" y="4343400"/>
            <a:ext cx="2514600" cy="182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TRY AGAIN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tryagain.jpg"/>
          <p:cNvPicPr/>
          <p:nvPr/>
        </p:nvPicPr>
        <p:blipFill>
          <a:blip r:embed="rId2"/>
          <a:stretch/>
        </p:blipFill>
        <p:spPr>
          <a:xfrm>
            <a:off x="6095880" y="3886200"/>
            <a:ext cx="2743200" cy="2543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 gas passes from the alveoli into the blood in the capilla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Oxygen and 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None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R ANSWER IS 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cupbutton.jpg"/>
          <p:cNvPicPr/>
          <p:nvPr/>
        </p:nvPicPr>
        <p:blipFill>
          <a:blip r:embed="rId2"/>
          <a:stretch/>
        </p:blipFill>
        <p:spPr>
          <a:xfrm>
            <a:off x="6172200" y="4343400"/>
            <a:ext cx="2514600" cy="1828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RRY, YOUR ANSWER IS NOT THE BEST ANSWER, MY DE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tryagain.jpg"/>
          <p:cNvPicPr/>
          <p:nvPr/>
        </p:nvPicPr>
        <p:blipFill>
          <a:blip r:embed="rId2"/>
          <a:stretch/>
        </p:blipFill>
        <p:spPr>
          <a:xfrm>
            <a:off x="6095880" y="3886200"/>
            <a:ext cx="2743200" cy="25430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kids-spelling-thank-yo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Path of Air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1828800" y="1371600"/>
            <a:ext cx="5410080" cy="49766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5"/>
          <p:cNvSpPr/>
          <p:nvPr/>
        </p:nvSpPr>
        <p:spPr>
          <a:xfrm>
            <a:off x="5029200" y="2438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"/>
          <p:cNvSpPr/>
          <p:nvPr/>
        </p:nvSpPr>
        <p:spPr>
          <a:xfrm>
            <a:off x="5105520" y="29718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ryn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5257800" y="35812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h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5562720" y="41148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nc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5638680" y="57913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as Exchang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202" name="Picture 10" descr="gas exchange diagram.png"/>
          <p:cNvPicPr/>
          <p:nvPr/>
        </p:nvPicPr>
        <p:blipFill>
          <a:blip r:embed="rId2"/>
          <a:stretch/>
        </p:blipFill>
        <p:spPr>
          <a:xfrm>
            <a:off x="533520" y="1600200"/>
            <a:ext cx="8076960" cy="46530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6"/>
          <p:cNvSpPr/>
          <p:nvPr/>
        </p:nvSpPr>
        <p:spPr>
          <a:xfrm>
            <a:off x="6705720" y="175248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il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1"/>
          <p:cNvSpPr/>
          <p:nvPr/>
        </p:nvSpPr>
        <p:spPr>
          <a:xfrm>
            <a:off x="4572000" y="3581280"/>
            <a:ext cx="990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2"/>
          <p:cNvSpPr/>
          <p:nvPr/>
        </p:nvSpPr>
        <p:spPr>
          <a:xfrm>
            <a:off x="6095880" y="4572000"/>
            <a:ext cx="1143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3"/>
          <p:cNvSpPr/>
          <p:nvPr/>
        </p:nvSpPr>
        <p:spPr>
          <a:xfrm>
            <a:off x="4495680" y="5029200"/>
            <a:ext cx="1143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veo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nctions of the Respiratory Syste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kes i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moves carbon dioxide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from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3808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th of A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Diagram 3" descr=""/>
          <p:cNvPicPr/>
          <p:nvPr/>
        </p:nvPicPr>
        <p:blipFill>
          <a:blip r:embed="rId2"/>
          <a:stretch/>
        </p:blipFill>
        <p:spPr>
          <a:xfrm>
            <a:off x="549360" y="1109520"/>
            <a:ext cx="8143920" cy="5370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TR10197883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Content Placeholder 7" descr="rs.jpg"/>
          <p:cNvPicPr/>
          <p:nvPr/>
        </p:nvPicPr>
        <p:blipFill>
          <a:blip r:embed="rId2"/>
          <a:stretch/>
        </p:blipFill>
        <p:spPr>
          <a:xfrm>
            <a:off x="1371600" y="762120"/>
            <a:ext cx="6629400" cy="533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1" name="Date Placeholder 3"/>
          <p:cNvSpPr/>
          <p:nvPr/>
        </p:nvSpPr>
        <p:spPr>
          <a:xfrm>
            <a:off x="76320" y="647712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70040"/>
                </a:solidFill>
                <a:latin typeface="Arial"/>
              </a:rPr>
              <a:t>Copyright © 2008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40080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s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ir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nter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cus moistens air and trap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d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Cili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: tiny hairlike extensions that sweep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ucu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into the thr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icture1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5" name="Date Placeholder 3"/>
          <p:cNvSpPr/>
          <p:nvPr/>
        </p:nvSpPr>
        <p:spPr>
          <a:xfrm>
            <a:off x="76320" y="647712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70040"/>
                </a:solidFill>
                <a:latin typeface="Arial"/>
              </a:rPr>
              <a:t>Copyright © 2008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64008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harynx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hroat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se and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outh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conn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hared with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digestiv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Picture1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19" name="Date Placeholder 3"/>
          <p:cNvSpPr/>
          <p:nvPr/>
        </p:nvSpPr>
        <p:spPr>
          <a:xfrm>
            <a:off x="76320" y="647712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70040"/>
                </a:solidFill>
                <a:latin typeface="Arial"/>
              </a:rPr>
              <a:t>Copyright © 2008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64008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chea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Windpipe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ined with cilia and mucus to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clea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and moisten 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artilage rings keep airway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2"/>
          <a:srcRect l="0" t="1639" r="0" b="5761"/>
          <a:stretch/>
        </p:blipFill>
        <p:spPr>
          <a:xfrm>
            <a:off x="2666880" y="4083120"/>
            <a:ext cx="3886200" cy="27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4" name="Date Placeholder 3"/>
          <p:cNvSpPr/>
          <p:nvPr/>
        </p:nvSpPr>
        <p:spPr>
          <a:xfrm>
            <a:off x="76320" y="6477120"/>
            <a:ext cx="502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70040"/>
                </a:solidFill>
                <a:latin typeface="Arial"/>
              </a:rPr>
              <a:t>Copyright © 2008 Pearson Education, Inc., publishing as Benjamin Cumm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6400800" cy="64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ronchi (singular: bronchus)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ssages that direct air into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ft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ronchu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→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Left lu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ight bronchu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→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ight l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vide into smaller tubes, like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ranche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of a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4876920" y="3886200"/>
            <a:ext cx="3143160" cy="243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1T13:03:42Z</dcterms:created>
  <dc:creator>Key's Space</dc:creator>
  <dc:description/>
  <dc:language>en-US</dc:language>
  <cp:lastModifiedBy>Howard County Administrator</cp:lastModifiedBy>
  <dcterms:modified xsi:type="dcterms:W3CDTF">2014-02-11T14:43:57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